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3522-F6E4-4156-8FF7-ADBFAC40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FB05-0627-459E-A8C4-4E731BE2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B3D0-75FE-44FD-973D-5A88349C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159D-9433-414F-BCE9-E9BE748C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6455-1DDD-4F5B-B5A4-3AB34972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F3C6-7D21-4574-9C04-6382F68B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C2F2-9E0F-4A0A-AB4B-D23ACFAA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B691-9FCA-4519-8E30-ECFD3B7F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713-8AA5-451C-8370-E4B92492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1992-5EE8-41D4-82C4-D83D0F4E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D6EE-4E54-4562-B0DB-F4C8720A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48E7-683A-457A-99F6-CB46FC72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F95A-3F7C-42AB-BA0A-614D67A85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7040" y="203040"/>
            <a:ext cx="8817120" cy="659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7040" y="200160"/>
            <a:ext cx="8817120" cy="65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816760" cy="65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125280"/>
            <a:ext cx="8785440" cy="66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80" y="960480"/>
            <a:ext cx="88218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8569080" cy="55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7040" y="203040"/>
            <a:ext cx="8817120" cy="659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7040" y="203040"/>
            <a:ext cx="8817120" cy="659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817120" cy="4816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4067280" cy="431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093080" y="5516640"/>
            <a:ext cx="1861920" cy="822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me sono nat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dare attuazione concreta e sistematica al capitolo V del Progetto Formativ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a meta della formazione dell’Azione Cattolica è quella di accompagnare i suoi aderenti ad essere laici capaci di vivere in modo autentico e originale la propria esperienza cristiana nella storia e nel mond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Dal Progetto Form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817120" cy="4816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4067280" cy="431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093080" y="5516640"/>
            <a:ext cx="1861920" cy="822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e sono n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i itinerari nascono per riprendere in modo approfondito la proposta formativa e associativa dell’AC nei diversi setto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oposta formativa intende promuovere nelle diverse età l’incontro con il Signore e il prendere forma di una vita cristiana caratterizzata da quattro dimensioni fondamenta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terior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fratern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responsa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cclesia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817120" cy="4816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4067280" cy="431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093080" y="5516640"/>
            <a:ext cx="1861920" cy="822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l’interno dell’esperienza vissuta nell’ACR ciascun bambino e ragazzo ha il modo di riscoprire il dono del Battesimo e di prepararsi a ricevere e vivere la Riconciliazione, l’Eucarestia e la Confermazione come tappe fondanti della propria vita cristian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’ACR quindi vive il suo impegno nei confronti dell’Iniziazione cristiana dei ragazzi attraverso tutto il suo percorso, che compone in modo organico annuncio e catechesi, liturgia e vita della comunità cristiana, impegno di carità e apertura missionari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817120" cy="4816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4067280" cy="43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093080" y="5516640"/>
            <a:ext cx="1861920" cy="822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cune peculiarit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rapporto alle diverse fasce dell’ACR gli itinerari indicano gli obiettivi formativi e i contenuti in rapporto alle quattro dimensioni sopra richiam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ne confermato il valore da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all’esperienza del gr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al protagonismo dei ragaz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alla globalità dei linguag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all’accompagnamento pers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all’incontro tra gener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alle domande di vita dei ragazz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ne ripresa l’attenzione ai bambini di 4-5 anni e alle loro famigl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817120" cy="4816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4067280" cy="431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093080" y="5516640"/>
            <a:ext cx="1861920" cy="822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ttore Giova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Scopo della proposta dell’associazione per i giovanissimi e i giovani è quello di favorire per ogni persona l’incontro con il volto autentico di Gesù, di sostenere la scelta della sequela dietro di Lui, di accompagnarla con pazienza, di condurre a una missionarietà sempre più consapevole nei confronti dei propri coetanei e delle persone che si incontrano e di essere protagonisti da laici nella vita della Chiesa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817120" cy="4816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4067280" cy="431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093080" y="5516640"/>
            <a:ext cx="1861920" cy="822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cune peculiarit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endo presenti le quattro dimensioni fondamentali viste prima, la proposta del Settore Giovani ‘organizza’ i contenuti formativi attraverso tre verb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i giovanissimi sono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darsi, amare, sper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i giovani sono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dere, condividere, testimoni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l punto di vista metodologico si sottolinea il valore del gruppo, del servizio, della vita spirituale personale attraverso la pratica della Lectio e l’elaborazione di una Regola di V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817120" cy="4816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4067280" cy="431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093080" y="5516640"/>
            <a:ext cx="1861920" cy="822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ttore Adul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Un itinerario formativo e missionario a misura di adulti si propone di formare laici capaci di vivere in modo autentico e originale la propria esperienza cristiana nella vita quotidiana, dentro una storia e un’umanità che ci coinvolgono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817120" cy="4816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4067280" cy="431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93080" y="5516640"/>
            <a:ext cx="1861920" cy="822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cune peculiarit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proposta del Settore Adulti intende aiutare a vivere in pienezza la propria esistenza e la propria fede riscoprendo, assieme alle tr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tù teologali, l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ttro virtù cardina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l punto di vista metodologico si ribadisce l’importanza di curare la vita del gruppo e la formazione individuale, di accrescere la dimensione culturale e teologica della formazione dell’adul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00:26:48Z</dcterms:created>
  <dc:creator>*</dc:creator>
  <dc:description/>
  <dc:language>en-US</dc:language>
  <cp:lastModifiedBy>*</cp:lastModifiedBy>
  <dcterms:modified xsi:type="dcterms:W3CDTF">2009-02-09T17:21:54Z</dcterms:modified>
  <cp:revision>18</cp:revision>
  <dc:subject/>
  <dc:title>Diapositiva 1</dc:title>
</cp:coreProperties>
</file>