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AAD9-BFBD-490A-94E3-678C20314B5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98A8-5D5A-40AB-BDF6-64710F5EBFD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1B18-41C7-4D52-8C72-6C47E21193C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5119-E61A-48FB-A0EB-99704AA0F9A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2CC0-6CF0-4D29-9452-019D5BB6F52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8B19-0D87-4D7F-9A4B-9645AD19E0A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27AC-4887-418A-9342-DF1A54C421B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D3B2-FE77-4AF6-AF08-324E5679B8F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17C5-E18E-40C1-922F-543187B2517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112D-CBC0-4A33-85EB-39D0B004E35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0201-8AF8-43AF-8584-DAF620EF08B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B545-8462-411C-8A4D-8BD4F25792A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ED3-72B7-4B57-9A66-5FAACC78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63AD-99B2-4DCF-BA8F-4C1C5ADA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0551-E4A6-4DFA-B949-BEED2587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852-FCEA-4570-89EC-9C82A53A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B1E-5D8B-4A95-9B83-22C0D6DF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2297-885F-44C9-B975-84B6C718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935-E826-49D6-BB06-77F15899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BA38-87FB-4885-846F-457520BE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22A-17B5-4F2D-A3F2-47BD39CE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DF0-3965-4003-A32A-1CB692EB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D7A7-5010-478B-81FB-72256571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94BB-B909-4DCE-996C-3FB22B82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939C-9631-48C8-BE32-54BF814E3E5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468720" y="41112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Imprint MT Shadow"/>
                <a:ea typeface="Arial"/>
              </a:rPr>
              <a:t>AREA VERDE </a:t>
            </a:r>
            <a:r>
              <a:rPr b="1" lang="it-IT" sz="1600" spc="-1" strike="noStrike">
                <a:solidFill>
                  <a:srgbClr val="009900"/>
                </a:solidFill>
                <a:latin typeface="Imprint MT Shadow"/>
                <a:ea typeface="Arial"/>
              </a:rPr>
              <a:t>II AN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74560" y="4843440"/>
            <a:ext cx="856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Imprint MT Shadow"/>
                <a:ea typeface="Arial"/>
              </a:rPr>
              <a:t>     </a:t>
            </a:r>
            <a:r>
              <a:rPr b="1" i="1" lang="it-IT" sz="2800" spc="-1" strike="noStrike">
                <a:solidFill>
                  <a:srgbClr val="000000"/>
                </a:solidFill>
                <a:latin typeface="Imprint MT Shadow"/>
                <a:ea typeface="Arial"/>
              </a:rPr>
              <a:t>15 Marzo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Imprint MT Shadow"/>
                <a:ea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cc"/>
                </a:solidFill>
                <a:latin typeface="Imprint MT Shadow"/>
                <a:ea typeface="Arial"/>
              </a:rPr>
              <a:t>      “</a:t>
            </a:r>
            <a:r>
              <a:rPr b="1" i="1" lang="it-IT" sz="2800" spc="-1" strike="noStrike">
                <a:solidFill>
                  <a:srgbClr val="0000cc"/>
                </a:solidFill>
                <a:latin typeface="Imprint MT Shadow"/>
                <a:ea typeface="Arial"/>
              </a:rPr>
              <a:t>Il cammino formativo del Settore Giovan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50920" y="342900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250920" y="342900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Diagram 5"/>
          <p:cNvGrpSpPr/>
          <p:nvPr/>
        </p:nvGrpSpPr>
        <p:grpSpPr>
          <a:xfrm>
            <a:off x="559080" y="2195280"/>
            <a:ext cx="2811240" cy="2199960"/>
            <a:chOff x="559080" y="2195280"/>
            <a:chExt cx="2811240" cy="2199960"/>
          </a:xfrm>
        </p:grpSpPr>
        <p:sp>
          <p:nvSpPr>
            <p:cNvPr id="99" name="_s2052"/>
            <p:cNvSpPr/>
            <p:nvPr/>
          </p:nvSpPr>
          <p:spPr>
            <a:xfrm>
              <a:off x="1059120" y="2195280"/>
              <a:ext cx="1811160" cy="1493280"/>
            </a:xfrm>
            <a:custGeom>
              <a:avLst/>
              <a:gdLst>
                <a:gd name="textAreaLeft" fmla="*/ 0 w 1811160"/>
                <a:gd name="textAreaRight" fmla="*/ 1811520 w 1811160"/>
                <a:gd name="textAreaTop" fmla="*/ 0 h 1493280"/>
                <a:gd name="textAreaBottom" fmla="*/ 1493640 h 149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53"/>
            <p:cNvSpPr/>
            <p:nvPr/>
          </p:nvSpPr>
          <p:spPr>
            <a:xfrm rot="7200000">
              <a:off x="1465560" y="2390040"/>
              <a:ext cx="1493640" cy="1811160"/>
            </a:xfrm>
            <a:custGeom>
              <a:avLst/>
              <a:gdLst>
                <a:gd name="textAreaLeft" fmla="*/ 0 w 1493640"/>
                <a:gd name="textAreaRight" fmla="*/ 1494000 w 1493640"/>
                <a:gd name="textAreaTop" fmla="*/ 0 h 1811160"/>
                <a:gd name="textAreaBottom" fmla="*/ 1811520 h 181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54"/>
            <p:cNvSpPr/>
            <p:nvPr/>
          </p:nvSpPr>
          <p:spPr>
            <a:xfrm rot="14400000">
              <a:off x="969480" y="2390040"/>
              <a:ext cx="1493640" cy="1810800"/>
            </a:xfrm>
            <a:custGeom>
              <a:avLst/>
              <a:gdLst>
                <a:gd name="textAreaLeft" fmla="*/ 0 w 1493640"/>
                <a:gd name="textAreaRight" fmla="*/ 1494000 w 1493640"/>
                <a:gd name="textAreaTop" fmla="*/ 0 h 1810800"/>
                <a:gd name="textAreaBottom" fmla="*/ 1811160 h 181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55"/>
            <p:cNvSpPr/>
            <p:nvPr/>
          </p:nvSpPr>
          <p:spPr>
            <a:xfrm>
              <a:off x="2460600" y="2469240"/>
              <a:ext cx="726480" cy="5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56"/>
            <p:cNvSpPr/>
            <p:nvPr/>
          </p:nvSpPr>
          <p:spPr>
            <a:xfrm>
              <a:off x="1601640" y="3696120"/>
              <a:ext cx="726480" cy="5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057"/>
            <p:cNvSpPr/>
            <p:nvPr/>
          </p:nvSpPr>
          <p:spPr>
            <a:xfrm>
              <a:off x="742680" y="2469240"/>
              <a:ext cx="726480" cy="5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4"/>
          <p:cNvSpPr/>
          <p:nvPr/>
        </p:nvSpPr>
        <p:spPr>
          <a:xfrm>
            <a:off x="2133720" y="2514600"/>
            <a:ext cx="201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howcard Gothic"/>
                <a:ea typeface="Arial"/>
              </a:rPr>
              <a:t>Situ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howcard Gothic"/>
                <a:ea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Showcard Gothic"/>
                <a:ea typeface="Arial"/>
              </a:rPr>
              <a:t>Iniziale</a:t>
            </a:r>
            <a:r>
              <a:rPr b="1" lang="en-US" sz="2400" spc="-1" strike="noStrike">
                <a:solidFill>
                  <a:srgbClr val="000066"/>
                </a:solidFill>
                <a:latin typeface="Showcard Gothic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1285560" y="40384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howcard Gothic"/>
                <a:ea typeface="Arial"/>
              </a:rPr>
              <a:t>Evol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228600" y="2590920"/>
            <a:ext cx="187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howcard Gothic"/>
                <a:ea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Showcard Gothic"/>
                <a:ea typeface="Arial"/>
              </a:rPr>
              <a:t>Situazione finale</a:t>
            </a:r>
            <a:r>
              <a:rPr b="1" lang="en-US" sz="2400" spc="-1" strike="noStrike">
                <a:solidFill>
                  <a:srgbClr val="000066"/>
                </a:solidFill>
                <a:latin typeface="Showcard Gothic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Diagram 18"/>
          <p:cNvGrpSpPr/>
          <p:nvPr/>
        </p:nvGrpSpPr>
        <p:grpSpPr>
          <a:xfrm>
            <a:off x="5263200" y="1890360"/>
            <a:ext cx="2810520" cy="2199960"/>
            <a:chOff x="5263200" y="1890360"/>
            <a:chExt cx="2810520" cy="2199960"/>
          </a:xfrm>
        </p:grpSpPr>
        <p:sp>
          <p:nvSpPr>
            <p:cNvPr id="109" name="_s2060"/>
            <p:cNvSpPr/>
            <p:nvPr/>
          </p:nvSpPr>
          <p:spPr>
            <a:xfrm>
              <a:off x="5762880" y="1890360"/>
              <a:ext cx="1810800" cy="1493280"/>
            </a:xfrm>
            <a:custGeom>
              <a:avLst/>
              <a:gdLst>
                <a:gd name="textAreaLeft" fmla="*/ 0 w 1810800"/>
                <a:gd name="textAreaRight" fmla="*/ 1811160 w 1810800"/>
                <a:gd name="textAreaTop" fmla="*/ 0 h 1493280"/>
                <a:gd name="textAreaBottom" fmla="*/ 1493640 h 149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2061"/>
            <p:cNvSpPr/>
            <p:nvPr/>
          </p:nvSpPr>
          <p:spPr>
            <a:xfrm rot="7200000">
              <a:off x="6169320" y="2085480"/>
              <a:ext cx="1493640" cy="1810800"/>
            </a:xfrm>
            <a:custGeom>
              <a:avLst/>
              <a:gdLst>
                <a:gd name="textAreaLeft" fmla="*/ 0 w 1493640"/>
                <a:gd name="textAreaRight" fmla="*/ 1494000 w 1493640"/>
                <a:gd name="textAreaTop" fmla="*/ 0 h 1810800"/>
                <a:gd name="textAreaBottom" fmla="*/ 1811160 h 181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062"/>
            <p:cNvSpPr/>
            <p:nvPr/>
          </p:nvSpPr>
          <p:spPr>
            <a:xfrm rot="14400000">
              <a:off x="5673240" y="2085120"/>
              <a:ext cx="1493640" cy="1810440"/>
            </a:xfrm>
            <a:custGeom>
              <a:avLst/>
              <a:gdLst>
                <a:gd name="textAreaLeft" fmla="*/ 0 w 1493640"/>
                <a:gd name="textAreaRight" fmla="*/ 1494000 w 1493640"/>
                <a:gd name="textAreaTop" fmla="*/ 0 h 1810440"/>
                <a:gd name="textAreaBottom" fmla="*/ 181080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063"/>
            <p:cNvSpPr/>
            <p:nvPr/>
          </p:nvSpPr>
          <p:spPr>
            <a:xfrm>
              <a:off x="7164000" y="2164320"/>
              <a:ext cx="726120" cy="5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064"/>
            <p:cNvSpPr/>
            <p:nvPr/>
          </p:nvSpPr>
          <p:spPr>
            <a:xfrm>
              <a:off x="6305400" y="3391200"/>
              <a:ext cx="726120" cy="5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065"/>
            <p:cNvSpPr/>
            <p:nvPr/>
          </p:nvSpPr>
          <p:spPr>
            <a:xfrm>
              <a:off x="5446440" y="2164320"/>
              <a:ext cx="726120" cy="5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26"/>
          <p:cNvSpPr/>
          <p:nvPr/>
        </p:nvSpPr>
        <p:spPr>
          <a:xfrm>
            <a:off x="6762600" y="220968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Showcard Gothic"/>
                <a:ea typeface="Arial"/>
              </a:rPr>
              <a:t>La storia di Ges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5454000" y="3886200"/>
            <a:ext cx="27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Showcard Gothic"/>
                <a:ea typeface="Arial"/>
              </a:rPr>
              <a:t>La mia storia con Ges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3501000" y="2362320"/>
            <a:ext cx="29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howcard Gothic"/>
                <a:ea typeface="Arial"/>
              </a:rPr>
              <a:t>La storia dei destina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0"/>
          <p:cNvSpPr/>
          <p:nvPr/>
        </p:nvSpPr>
        <p:spPr>
          <a:xfrm>
            <a:off x="532800" y="4572000"/>
            <a:ext cx="383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vangelo incontra la vita  (GV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ctio   (Giova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5059800" y="4572000"/>
            <a:ext cx="395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 click / rotta educativa  (GV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logo con l’educatore   (Giova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2"/>
          <p:cNvSpPr/>
          <p:nvPr/>
        </p:nvSpPr>
        <p:spPr>
          <a:xfrm>
            <a:off x="2592720" y="6248520"/>
            <a:ext cx="34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ERIEN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3"/>
          <p:cNvSpPr/>
          <p:nvPr/>
        </p:nvSpPr>
        <p:spPr>
          <a:xfrm>
            <a:off x="2057400" y="49528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4"/>
          <p:cNvSpPr/>
          <p:nvPr/>
        </p:nvSpPr>
        <p:spPr>
          <a:xfrm flipH="1">
            <a:off x="5943240" y="48769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3"/>
          <p:cNvSpPr/>
          <p:nvPr/>
        </p:nvSpPr>
        <p:spPr>
          <a:xfrm>
            <a:off x="1828800" y="60958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4"/>
          <p:cNvSpPr/>
          <p:nvPr/>
        </p:nvSpPr>
        <p:spPr>
          <a:xfrm flipH="1">
            <a:off x="6095880" y="60199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5181480"/>
            <a:ext cx="30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ORSI DI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324000" y="4045680"/>
            <a:ext cx="85690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Imprint MT Shadow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84360" y="3860640"/>
            <a:ext cx="6948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627440" y="1066680"/>
            <a:ext cx="43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Ravie"/>
                <a:ea typeface="Arial"/>
              </a:rPr>
              <a:t>Brano Luca 5, 1-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228600" y="1905120"/>
            <a:ext cx="8534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giorno, mentre, levato in piedi, stava presso il lago di Genèsaret  e la folla gli faceva ressa intorno per ascoltare la parola di Dio, vide due barche ormeggiate alla sponda. I pescatori erano scesi e lavavano le reti. Salì in una barca, che era di Simone, e lo pregò di scostarsi un poco da terra. Sedutosi, si mise ad ammaestrare le folle dalla bar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ndo ebbe finito di parlare, disse a Simone: “Prendi il largo e calate le reti per la pesca”. Simone rispose: “Maestro, abbiamo faticato tutta la notte e non abbiamo preso nulla; ma sulla tua parola getterò le reti”. E avendolo fatto, presero una quantità enorme di pesci e le reti si rompevano. Allora fecero cenno ai compagni dell’altra barca, che venissero ad aiutarli. Essi vennero e riempirono tutte e due le barche al punto che quasi affondavano. Al veder questo, Simon Pietro si gettò alle ginocchia di Gesù, dicendo: “Signore, allontanati da me che sono un peccatore”. Grande stupore infatti aveva preso lui e tutti quelli che erano insieme con lui per la pesca che avevano fatto; così pure Giacomo e Giovanni, figli di Zebedèo, che erano soci di Simone. Gesù disse a Simone: “Non temere; d’ora in poi sarai pescatore di uomini”. Tirate le barche a terra, lasciarono tutto e lo seguir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324000" y="4026600"/>
            <a:ext cx="85690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Imprint MT Shadow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3863880"/>
            <a:ext cx="6948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2492280"/>
            <a:ext cx="8231040" cy="39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Papyrus"/>
                <a:ea typeface="Arial"/>
              </a:rPr>
              <a:t>Prima rego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Papyrus"/>
                <a:ea typeface="Arial"/>
              </a:rPr>
              <a:t>Una </a:t>
            </a:r>
            <a:r>
              <a:rPr b="1" lang="it-IT" sz="3600" spc="-1" strike="noStrike" u="sng">
                <a:solidFill>
                  <a:srgbClr val="0000cc"/>
                </a:solidFill>
                <a:uFillTx/>
                <a:latin typeface="Papyrus"/>
                <a:ea typeface="Arial"/>
              </a:rPr>
              <a:t>buona</a:t>
            </a:r>
            <a:r>
              <a:rPr b="1" lang="it-IT" sz="3600" spc="-1" strike="noStrike">
                <a:solidFill>
                  <a:srgbClr val="0000cc"/>
                </a:solidFill>
                <a:latin typeface="Papyrus"/>
                <a:ea typeface="Arial"/>
              </a:rPr>
              <a:t> trama narr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Papyrus"/>
                <a:ea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Papyrus"/>
                <a:ea typeface="Arial"/>
              </a:rPr>
              <a:t>Situazione inizi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Papyrus"/>
                <a:ea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Papyrus"/>
                <a:ea typeface="Arial"/>
              </a:rPr>
              <a:t>l’evoluzione della sto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Papyrus"/>
                <a:ea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Papyrus"/>
                <a:ea typeface="Arial"/>
              </a:rPr>
              <a:t>Situazione fi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572000" y="533520"/>
            <a:ext cx="388296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Papyrus"/>
              </a:rPr>
              <a:t>Gli elementi della narr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324000" y="4026600"/>
            <a:ext cx="85690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Imprint MT Shadow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042920" y="4060080"/>
            <a:ext cx="69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500720" y="476280"/>
            <a:ext cx="3882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Papyrus"/>
              </a:rPr>
              <a:t>Gli elementi  della narr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50920" y="2205000"/>
            <a:ext cx="8512200" cy="51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Papyrus"/>
                <a:ea typeface="Arial"/>
              </a:rPr>
              <a:t>Seconda regola</a:t>
            </a:r>
            <a:r>
              <a:rPr b="1" lang="it-IT" sz="2800" spc="-1" strike="noStrike">
                <a:solidFill>
                  <a:srgbClr val="000000"/>
                </a:solidFill>
                <a:latin typeface="Papyrus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Papyrus"/>
                <a:ea typeface="Arial"/>
              </a:rPr>
              <a:t>Un buona capacità di coinvolgi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Papyrus"/>
                <a:ea typeface="Arial"/>
              </a:rPr>
              <a:t>Presenza di un problema se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Papyrus"/>
                <a:ea typeface="Arial"/>
              </a:rPr>
              <a:t>Situazioni corrispondenti al vissuto dell’ascolt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Papyrus"/>
                <a:ea typeface="Arial"/>
              </a:rPr>
              <a:t>Soluzione del problema possib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250920" y="341460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Diagram 4"/>
          <p:cNvGrpSpPr/>
          <p:nvPr/>
        </p:nvGrpSpPr>
        <p:grpSpPr>
          <a:xfrm>
            <a:off x="2454120" y="3001680"/>
            <a:ext cx="3378960" cy="2448360"/>
            <a:chOff x="2454120" y="3001680"/>
            <a:chExt cx="3378960" cy="2448360"/>
          </a:xfrm>
        </p:grpSpPr>
        <p:sp>
          <p:nvSpPr>
            <p:cNvPr id="69" name="_s1028"/>
            <p:cNvSpPr/>
            <p:nvPr/>
          </p:nvSpPr>
          <p:spPr>
            <a:xfrm>
              <a:off x="2989080" y="3125520"/>
              <a:ext cx="2309400" cy="1493280"/>
            </a:xfrm>
            <a:custGeom>
              <a:avLst/>
              <a:gdLst>
                <a:gd name="textAreaLeft" fmla="*/ 0 w 2309400"/>
                <a:gd name="textAreaRight" fmla="*/ 2309760 w 2309400"/>
                <a:gd name="textAreaTop" fmla="*/ 0 h 1493280"/>
                <a:gd name="textAreaBottom" fmla="*/ 1493640 h 149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29"/>
            <p:cNvSpPr/>
            <p:nvPr/>
          </p:nvSpPr>
          <p:spPr>
            <a:xfrm rot="7200000">
              <a:off x="3712680" y="3071160"/>
              <a:ext cx="1493640" cy="2309400"/>
            </a:xfrm>
            <a:custGeom>
              <a:avLst/>
              <a:gdLst>
                <a:gd name="textAreaLeft" fmla="*/ 0 w 1493640"/>
                <a:gd name="textAreaRight" fmla="*/ 1494000 w 1493640"/>
                <a:gd name="textAreaTop" fmla="*/ 0 h 2309400"/>
                <a:gd name="textAreaBottom" fmla="*/ 2309760 h 230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0"/>
            <p:cNvSpPr/>
            <p:nvPr/>
          </p:nvSpPr>
          <p:spPr>
            <a:xfrm rot="14400000">
              <a:off x="3080520" y="3071160"/>
              <a:ext cx="1493640" cy="2309400"/>
            </a:xfrm>
            <a:custGeom>
              <a:avLst/>
              <a:gdLst>
                <a:gd name="textAreaLeft" fmla="*/ 0 w 1493640"/>
                <a:gd name="textAreaRight" fmla="*/ 1494000 w 1493640"/>
                <a:gd name="textAreaTop" fmla="*/ 0 h 2309400"/>
                <a:gd name="textAreaBottom" fmla="*/ 2309760 h 230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1"/>
            <p:cNvSpPr/>
            <p:nvPr/>
          </p:nvSpPr>
          <p:spPr>
            <a:xfrm>
              <a:off x="4776120" y="3399480"/>
              <a:ext cx="926280" cy="5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2"/>
            <p:cNvSpPr/>
            <p:nvPr/>
          </p:nvSpPr>
          <p:spPr>
            <a:xfrm>
              <a:off x="3680640" y="4626360"/>
              <a:ext cx="926280" cy="5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3"/>
            <p:cNvSpPr/>
            <p:nvPr/>
          </p:nvSpPr>
          <p:spPr>
            <a:xfrm>
              <a:off x="2585160" y="3399480"/>
              <a:ext cx="926280" cy="5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5156280" y="291456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Showcard Gothic"/>
                <a:ea typeface="Arial"/>
              </a:rPr>
              <a:t>La storia di Ges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2687040" y="5291280"/>
            <a:ext cx="36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Showcard Gothic"/>
                <a:ea typeface="Arial"/>
              </a:rPr>
              <a:t>La mia storia con Ges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1028160" y="35622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Showcard Gothic"/>
                <a:ea typeface="Arial"/>
              </a:rPr>
              <a:t>La storia dei destinat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957560" y="129528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Papyrus"/>
                <a:ea typeface="Arial"/>
              </a:rPr>
              <a:t>Una storia a tre st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250920" y="342900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9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7631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250920" y="342900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5105520" y="1522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Showcard Gothic"/>
                <a:ea typeface="Arial"/>
              </a:rPr>
              <a:t> </a:t>
            </a:r>
            <a:r>
              <a:rPr b="1" lang="it-IT" sz="3600" spc="-1" strike="noStrike">
                <a:solidFill>
                  <a:srgbClr val="000066"/>
                </a:solidFill>
                <a:latin typeface="Showcard Gothic"/>
                <a:ea typeface="Arial"/>
              </a:rPr>
              <a:t>Cammino Giovanissimi</a:t>
            </a:r>
            <a:r>
              <a:rPr b="1" lang="it-IT" sz="4400" spc="-1" strike="noStrike">
                <a:solidFill>
                  <a:srgbClr val="000066"/>
                </a:solidFill>
                <a:latin typeface="Showcard Gothic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250920" y="342900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250920" y="342900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800600" y="3049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Showcard Gothic"/>
                <a:ea typeface="Arial"/>
              </a:rPr>
              <a:t> </a:t>
            </a:r>
            <a:r>
              <a:rPr b="1" lang="it-IT" sz="3200" spc="-1" strike="noStrike">
                <a:solidFill>
                  <a:srgbClr val="000066"/>
                </a:solidFill>
                <a:latin typeface="Showcard Gothic"/>
                <a:ea typeface="Arial"/>
              </a:rPr>
              <a:t>Cammino     Giovani</a:t>
            </a:r>
            <a:r>
              <a:rPr b="1" lang="it-IT" sz="4000" spc="-1" strike="noStrike">
                <a:solidFill>
                  <a:srgbClr val="000066"/>
                </a:solidFill>
                <a:latin typeface="Showcard Gothic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0-10-07T09:45:2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